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D777-CF49-4464-8B00-0A25B1C2C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0DA9-AA23-4526-A905-457728B5693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7A6D-3F40-4475-9300-F6D46A7A869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D48F-257A-41C8-9465-EC5C2707FB9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874C-FBCF-4772-87A5-A8AF7D6C817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62EA-ACF7-429C-9374-54251DA620A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B680-A33C-490B-BF57-31430F467AB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29AE-BD16-4185-9A8C-920A4ADDA5D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9AFB-9423-4DA2-9753-4F820A63B3B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432E-17DD-469B-9854-BB4F2E8BF6B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61AB-A41D-4755-93EB-AF310DAD389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6971-D85F-4871-B2DA-9474AD1BC9F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3E3-A488-485C-A4BA-3996707D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B72-ECA8-45DE-BF20-598B86CE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592-720A-49FB-A737-E0459301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65E-AD0A-4EC8-A35C-DB863F67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150-29F8-480C-BB02-5F7894ED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EC1-3698-4370-987A-1B79CB9E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9D6-C3AA-449B-800A-525FE1D4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CC1-5EB1-4401-B93B-7BBE993D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65B-0BFA-4FA6-B192-54DA96D1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3B5-AB77-4FFA-8EF5-931416ED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207-2BF3-4D38-81C0-FDC4079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F57-0E25-481C-9A7D-D7D168DE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4352-68FC-482A-B3E1-C0F91D63BD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606F-D251-430E-9EBC-5AE85DF071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187280" y="2421000"/>
            <a:ext cx="66009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 druhém roce implementace METODIKY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22. 1. 2019, VŠFS,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7D8C-ABB1-4C3E-9872-95036863CDBC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C36B-6D54-46C1-84A4-5516442AD36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BEE4-72A1-495F-A262-FFE8A320D5E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D4D1-92A0-4892-A459-0807A8751B7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7, evidovaných v RIV k 31. 5.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DA1F-EA52-4F15-ABA5-C03831E9DCC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197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čet hodnoce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940040"/>
          <a:ext cx="7023240" cy="4446360"/>
        </p:xfrm>
        <a:graphic>
          <a:graphicData uri="http://schemas.openxmlformats.org/drawingml/2006/table">
            <a:tbl>
              <a:tblPr/>
              <a:tblGrid>
                <a:gridCol w="3044880"/>
                <a:gridCol w="1319040"/>
                <a:gridCol w="1301760"/>
                <a:gridCol w="1357560"/>
              </a:tblGrid>
              <a:tr h="37836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lečenská relev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no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pozn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atur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ngineering and Techn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edical and Health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gricultural and veterinary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oci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umanities and 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lečenská relev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no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pozn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atur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ngineering and Techn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edical and Health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gricultural and veterinary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oci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umanities and 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 realizace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15FA-97C1-4661-8E9C-B75B42B4E26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060280"/>
            <a:ext cx="8686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ení oborů podle OECD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rascati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ovým skupiná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í se n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y FOR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ields of Research and Developement) např. 1.1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, místopředseda + 2 panelist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 každý obor F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09A0-5015-49EE-8ED6-7F3027850313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hodné hodnotitele z databáze vybír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 pomocí aplikace SK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zení odsouhlasí druhý oborový paneli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vybraného kritéria 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B4DA-A3C4-4828-B4F0-79136989564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vidováni v databáz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, výzkumné organizace, členové poradních orgánů RV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6981-E653-410D-97B6-3AA4797952B7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EDD4-EE27-4FCF-A091-6FC49C4346F4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E9D7-950D-42CB-95F4-03675752D8B1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EKC</cp:lastModifiedBy>
  <cp:lastPrinted>2018-03-13T15:15:38Z</cp:lastPrinted>
  <dcterms:modified xsi:type="dcterms:W3CDTF">2019-01-22T11:18:33Z</dcterms:modified>
  <cp:revision>114</cp:revision>
  <dc:subject/>
  <dc:title>Prezentace aplikace PowerPoint</dc:title>
</cp:coreProperties>
</file>